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E601-34EB-4634-B2C4-1B12B95A8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B075-9484-44C1-9AF9-1103D5710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8603-B134-4678-B113-B8EA82A7A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616E-D5FC-41F4-9586-B38AE40AB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E832-7B19-4B7D-AF7C-9BF1C672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EC20-3012-4CCC-A536-A84F988E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E92-6124-44CD-B3D7-AFBA90EF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DF9-9666-405D-B0A5-959B42EF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53C-C8E0-4A0A-9B2B-9B8B7DEB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9476-BBCD-4ADC-8FAF-6649D6FB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711-3AE3-41C7-8644-48EF1395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9EE-FF2F-44A4-91BE-F6A8A605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D3B0-F37C-48D2-A6CF-F576EF0D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ECC0-1142-45F2-BDE3-280AC329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5AF8-A883-49D6-9E3F-F491482F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2B7E-A7E7-4EC8-8420-3814D4C6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7AFF-02BC-403D-8804-B510F7A30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23050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iquid Milk and Feed Value Chain Analysis for Wolmera District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580920"/>
            <a:ext cx="9144000" cy="205740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iry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leta Agricultural Research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hannels Identified for F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3" marL="452520" indent="-394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Channel 1: Total feed produced and retained for own consumption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452520" indent="-394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Channel 2: Feed produced reaching the producers through trad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452520" indent="-3942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Channel 3: Feed produced reaching terminal markets with/out coops/un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Constraints along the milk value cha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84807"/>
                </a:solidFill>
                <a:latin typeface="Calibri"/>
              </a:rPr>
              <a:t>Input Supp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hortage of feed supp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oor quality fe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ack of awareness about feed formu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adequate supply of improved dairy stock and A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efficient AI and vet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hortage of vet drug suppl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High interest rate and demand for collateral for cred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98480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98480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Calibri"/>
              </a:rPr>
              <a:t>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investment cost to start dairy far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feed co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roductivity of dairy catt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management skill from milking to sell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training in dairy production and manage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Process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age and seasonality of raw milk suppl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y of poor quality milk to process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technical skill of staff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marketing in labeling and distribu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ost of packag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ong distance poor road infrastructure to reach marke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gh cost of transpor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ck of chilling facilities (most of the trader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roper milk packing and handl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rtage of processed milk for distribu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Consump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ong fasting days of the Orthodox Christian follow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rong assumption that milk is meant only for ki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gh milk pric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ck of consumers’ knowledge on milk qua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ow enforcement of milk quality standar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straints in feed value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Input Supp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nd short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age of seed and other planting materi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ck of training on forage production and pasture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age of raw materials for agro-industries and feed processing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Produ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Low productivity of pas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ck of forage production ski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-effcient feed preservation pract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Hig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ost raw materials for agro-industries and feed processing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Process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w processing plants that are congested around Add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of them operate under their installed capac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t + other taxes on fe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quality control on fe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’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Calibri"/>
              </a:rPr>
              <a:t>Marke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asonality in availability and price of fe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igh transportation cos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on market oriented production of improved forage and seed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bsence of feed quality control in the mark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ew actors monopolizing the concentrate feed mark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Calibri"/>
              </a:rPr>
              <a:t>Consump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igh feed pri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ortage of supp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ck of awareness on improved feed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igh adulter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igh transportation cos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w level of understanding of feed quality by consum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Opportunities identifi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itable agro-ecology for dairy &amp; feed produc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gh domestic and export demand for milk &amp; fe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rge number of emerging dairy and feed processing indust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vailability of relatively cheaper labor for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rong government suppor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gh population growth with better income and demand for better quality foo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xpanding livestock industry with high demand for better quality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fe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Good and reliable road connecti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CA tool for dairy should have been developed separa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 and dairy value chains should have been studied independently of each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CA demands more time and well organized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led level Monitoring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C:\Users\toshiba\Desktop\ELF Pictutre\FEAST PICTURE\Survey (Early May, 2012) 01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4"/>
          <p:cNvSpPr/>
          <p:nvPr/>
        </p:nvSpPr>
        <p:spPr>
          <a:xfrm>
            <a:off x="380880" y="990720"/>
            <a:ext cx="7620120" cy="2105640"/>
          </a:xfrm>
          <a:prstGeom prst="rect">
            <a:avLst/>
          </a:prstGeom>
          <a:gradFill rotWithShape="0">
            <a:gsLst>
              <a:gs pos="0">
                <a:srgbClr val="f2dcdb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Thank you !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4520" indent="-2840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lmera  woreda is among the highland areas categorized under the Addis Ababa dairy milk sh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has conducive agro-ecological conditions suitable for improved dairy anim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s proximity to the large consumer base in Addis Aba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ry is an important means of livelihood for the farmers in th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different market outlets for liquid milk: cooperative unions, processors and private tra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452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urpose of this study is to understand the dairy value chain test tools developed for this purpo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8380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major objectiv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is study is to assess fluid milk and feed value chain in Wolmera woreda 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t is conducted with specific objectives of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understanding the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re function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ajor actor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d in each value chai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Identifying major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nstrai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pportuniti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each value chai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Testing and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urther refining of the VC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 </a:t>
            </a:r>
            <a:r>
              <a:rPr b="0" lang="en-U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or wider scale us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utu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304920" y="327672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f Value Chain Analy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4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Notched Right Arrow 18"/>
          <p:cNvSpPr/>
          <p:nvPr/>
        </p:nvSpPr>
        <p:spPr>
          <a:xfrm>
            <a:off x="644400" y="1841400"/>
            <a:ext cx="1338480" cy="847800"/>
          </a:xfrm>
          <a:custGeom>
            <a:avLst/>
            <a:gdLst>
              <a:gd name="textAreaLeft" fmla="*/ 153000 w 1338480"/>
              <a:gd name="textAreaRight" fmla="*/ 1185480 w 133848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6" y="0"/>
                </a:lnTo>
                <a:lnTo>
                  <a:pt x="19126" y="0"/>
                </a:lnTo>
                <a:lnTo>
                  <a:pt x="21600" y="10800"/>
                </a:lnTo>
                <a:lnTo>
                  <a:pt x="19126" y="21600"/>
                </a:lnTo>
                <a:lnTo>
                  <a:pt x="19126" y="21600"/>
                </a:lnTo>
                <a:lnTo>
                  <a:pt x="0" y="21600"/>
                </a:lnTo>
                <a:lnTo>
                  <a:pt x="2474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supp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Notched Right Arrow 19"/>
          <p:cNvSpPr/>
          <p:nvPr/>
        </p:nvSpPr>
        <p:spPr>
          <a:xfrm>
            <a:off x="1903320" y="1841400"/>
            <a:ext cx="1216080" cy="847800"/>
          </a:xfrm>
          <a:custGeom>
            <a:avLst/>
            <a:gdLst>
              <a:gd name="textAreaLeft" fmla="*/ 153360 w 1216080"/>
              <a:gd name="textAreaRight" fmla="*/ 1062720 w 121608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73" y="0"/>
                </a:lnTo>
                <a:lnTo>
                  <a:pt x="18873" y="0"/>
                </a:lnTo>
                <a:lnTo>
                  <a:pt x="21600" y="10800"/>
                </a:lnTo>
                <a:lnTo>
                  <a:pt x="18873" y="21600"/>
                </a:lnTo>
                <a:lnTo>
                  <a:pt x="18873" y="21600"/>
                </a:lnTo>
                <a:lnTo>
                  <a:pt x="0" y="21600"/>
                </a:lnTo>
                <a:lnTo>
                  <a:pt x="2727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Notched Right Arrow 20"/>
          <p:cNvSpPr/>
          <p:nvPr/>
        </p:nvSpPr>
        <p:spPr>
          <a:xfrm>
            <a:off x="3049560" y="1841400"/>
            <a:ext cx="1417680" cy="847800"/>
          </a:xfrm>
          <a:custGeom>
            <a:avLst/>
            <a:gdLst>
              <a:gd name="textAreaLeft" fmla="*/ 153360 w 1417680"/>
              <a:gd name="textAreaRight" fmla="*/ 1264320 w 141768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63" y="0"/>
                </a:lnTo>
                <a:lnTo>
                  <a:pt x="19263" y="0"/>
                </a:lnTo>
                <a:lnTo>
                  <a:pt x="21600" y="10800"/>
                </a:lnTo>
                <a:lnTo>
                  <a:pt x="19263" y="21600"/>
                </a:lnTo>
                <a:lnTo>
                  <a:pt x="19263" y="21600"/>
                </a:lnTo>
                <a:lnTo>
                  <a:pt x="0" y="21600"/>
                </a:lnTo>
                <a:lnTo>
                  <a:pt x="2337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f2dcdb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aw milk marke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Notched Right Arrow 21"/>
          <p:cNvSpPr/>
          <p:nvPr/>
        </p:nvSpPr>
        <p:spPr>
          <a:xfrm>
            <a:off x="4402080" y="1828800"/>
            <a:ext cx="1428840" cy="847800"/>
          </a:xfrm>
          <a:custGeom>
            <a:avLst/>
            <a:gdLst>
              <a:gd name="textAreaLeft" fmla="*/ 153360 w 1428840"/>
              <a:gd name="textAreaRight" fmla="*/ 1275480 w 142884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1" y="0"/>
                </a:lnTo>
                <a:lnTo>
                  <a:pt x="19281" y="0"/>
                </a:lnTo>
                <a:lnTo>
                  <a:pt x="21600" y="10800"/>
                </a:lnTo>
                <a:lnTo>
                  <a:pt x="19281" y="21600"/>
                </a:lnTo>
                <a:lnTo>
                  <a:pt x="19281" y="21600"/>
                </a:lnTo>
                <a:lnTo>
                  <a:pt x="0" y="21600"/>
                </a:lnTo>
                <a:lnTo>
                  <a:pt x="2319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s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Notched Right Arrow 22"/>
          <p:cNvSpPr/>
          <p:nvPr/>
        </p:nvSpPr>
        <p:spPr>
          <a:xfrm>
            <a:off x="5754600" y="1841400"/>
            <a:ext cx="1406520" cy="847800"/>
          </a:xfrm>
          <a:custGeom>
            <a:avLst/>
            <a:gdLst>
              <a:gd name="textAreaLeft" fmla="*/ 153000 w 1406520"/>
              <a:gd name="textAreaRight" fmla="*/ 1253520 w 140652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19246" y="21600"/>
                </a:lnTo>
                <a:lnTo>
                  <a:pt x="0" y="21600"/>
                </a:lnTo>
                <a:lnTo>
                  <a:pt x="2354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fcd5b5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tail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Notched Right Arrow 23"/>
          <p:cNvSpPr/>
          <p:nvPr/>
        </p:nvSpPr>
        <p:spPr>
          <a:xfrm>
            <a:off x="7075440" y="1841400"/>
            <a:ext cx="1739880" cy="847800"/>
          </a:xfrm>
          <a:custGeom>
            <a:avLst/>
            <a:gdLst>
              <a:gd name="textAreaLeft" fmla="*/ 170640 w 1739880"/>
              <a:gd name="textAreaRight" fmla="*/ 1569240 w 173988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82" y="0"/>
                </a:lnTo>
                <a:lnTo>
                  <a:pt x="19482" y="0"/>
                </a:lnTo>
                <a:lnTo>
                  <a:pt x="21600" y="10800"/>
                </a:lnTo>
                <a:lnTo>
                  <a:pt x="19482" y="21600"/>
                </a:lnTo>
                <a:lnTo>
                  <a:pt x="19482" y="21600"/>
                </a:lnTo>
                <a:lnTo>
                  <a:pt x="0" y="21600"/>
                </a:lnTo>
                <a:lnTo>
                  <a:pt x="2118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b7dee8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sump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Up Arrow Callout 24"/>
          <p:cNvSpPr/>
          <p:nvPr/>
        </p:nvSpPr>
        <p:spPr>
          <a:xfrm>
            <a:off x="82440" y="2698920"/>
            <a:ext cx="1447920" cy="2787480"/>
          </a:xfrm>
          <a:prstGeom prst="upArrowCallout">
            <a:avLst>
              <a:gd name="adj1" fmla="val 25002"/>
              <a:gd name="adj2" fmla="val 25000"/>
              <a:gd name="adj3" fmla="val 13200"/>
              <a:gd name="adj4" fmla="val 28663"/>
            </a:avLst>
          </a:prstGeom>
          <a:solidFill>
            <a:srgbClr val="92d05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em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Feed ingredien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La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Lab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e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rug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Up Arrow Callout 25"/>
          <p:cNvSpPr/>
          <p:nvPr/>
        </p:nvSpPr>
        <p:spPr>
          <a:xfrm>
            <a:off x="1751040" y="2711520"/>
            <a:ext cx="1135080" cy="1596960"/>
          </a:xfrm>
          <a:prstGeom prst="upArrowCallout">
            <a:avLst>
              <a:gd name="adj1" fmla="val 25002"/>
              <a:gd name="adj2" fmla="val 25000"/>
              <a:gd name="adj3" fmla="val 26581"/>
              <a:gd name="adj4" fmla="val 54519"/>
            </a:avLst>
          </a:prstGeom>
          <a:solidFill>
            <a:srgbClr val="8eb4e3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w rear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Feed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ilk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Up Arrow Callout 26"/>
          <p:cNvSpPr/>
          <p:nvPr/>
        </p:nvSpPr>
        <p:spPr>
          <a:xfrm>
            <a:off x="3000240" y="2719440"/>
            <a:ext cx="1401840" cy="1784160"/>
          </a:xfrm>
          <a:prstGeom prst="upArrowCallout">
            <a:avLst>
              <a:gd name="adj1" fmla="val 30558"/>
              <a:gd name="adj2" fmla="val 25000"/>
              <a:gd name="adj3" fmla="val 15986"/>
              <a:gd name="adj4" fmla="val 45796"/>
            </a:avLst>
          </a:prstGeom>
          <a:solidFill>
            <a:srgbClr val="f2dcdb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llec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frige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ansport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elivery to processo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Up Arrow Callout 27"/>
          <p:cNvSpPr/>
          <p:nvPr/>
        </p:nvSpPr>
        <p:spPr>
          <a:xfrm>
            <a:off x="4467240" y="2692440"/>
            <a:ext cx="1542960" cy="1812960"/>
          </a:xfrm>
          <a:prstGeom prst="upArrowCallout">
            <a:avLst>
              <a:gd name="adj1" fmla="val 25002"/>
              <a:gd name="adj2" fmla="val 25000"/>
              <a:gd name="adj3" fmla="val 15808"/>
              <a:gd name="adj4" fmla="val 45610"/>
            </a:avLst>
          </a:prstGeom>
          <a:solidFill>
            <a:srgbClr val="8eb4e3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ilk chill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asteuriz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acka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s mak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Quality assess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Up Arrow Callout 28"/>
          <p:cNvSpPr/>
          <p:nvPr/>
        </p:nvSpPr>
        <p:spPr>
          <a:xfrm>
            <a:off x="6172200" y="2684520"/>
            <a:ext cx="1219320" cy="1819080"/>
          </a:xfrm>
          <a:prstGeom prst="upArrowCallout">
            <a:avLst>
              <a:gd name="adj1" fmla="val 20641"/>
              <a:gd name="adj2" fmla="val 25000"/>
              <a:gd name="adj3" fmla="val 12577"/>
              <a:gd name="adj4" fmla="val 37405"/>
            </a:avLst>
          </a:prstGeom>
          <a:solidFill>
            <a:srgbClr val="fcd5b5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ell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anspor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Quality assess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Up Arrow Callout 29"/>
          <p:cNvSpPr/>
          <p:nvPr/>
        </p:nvSpPr>
        <p:spPr>
          <a:xfrm>
            <a:off x="7562880" y="2711520"/>
            <a:ext cx="1123920" cy="1278000"/>
          </a:xfrm>
          <a:prstGeom prst="upArrowCallout">
            <a:avLst>
              <a:gd name="adj1" fmla="val 26521"/>
              <a:gd name="adj2" fmla="val 25000"/>
              <a:gd name="adj3" fmla="val 15882"/>
              <a:gd name="adj4" fmla="val 54519"/>
            </a:avLst>
          </a:prstGeom>
          <a:solidFill>
            <a:srgbClr val="b7dee8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Quality assess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352440" y="10666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Core functions and activities in the fluid milk value ch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788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uid Milk VC Actors and Major Chann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-152280" y="1143000"/>
            <a:ext cx="9067680" cy="5562720"/>
            <a:chOff x="-152280" y="1143000"/>
            <a:chExt cx="9067680" cy="5562720"/>
          </a:xfrm>
        </p:grpSpPr>
        <p:sp>
          <p:nvSpPr>
            <p:cNvPr id="71" name="AutoShape 3"/>
            <p:cNvSpPr/>
            <p:nvPr/>
          </p:nvSpPr>
          <p:spPr>
            <a:xfrm flipV="1">
              <a:off x="-75960" y="2926440"/>
              <a:ext cx="1871640" cy="555480"/>
            </a:xfrm>
            <a:prstGeom prst="cube">
              <a:avLst>
                <a:gd name="adj" fmla="val 25000"/>
              </a:avLst>
            </a:prstGeom>
            <a:solidFill>
              <a:srgbClr val="d99594"/>
            </a:solidFill>
            <a:ln w="3816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Raw Milk Marketing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AutoShape 4"/>
            <p:cNvSpPr/>
            <p:nvPr/>
          </p:nvSpPr>
          <p:spPr>
            <a:xfrm flipV="1">
              <a:off x="-151920" y="3740040"/>
              <a:ext cx="2162160" cy="591840"/>
            </a:xfrm>
            <a:prstGeom prst="cube">
              <a:avLst>
                <a:gd name="adj" fmla="val 25000"/>
              </a:avLst>
            </a:prstGeom>
            <a:solidFill>
              <a:srgbClr val="9bbb59"/>
            </a:solidFill>
            <a:ln w="3816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rocessing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AutoShape 5"/>
            <p:cNvSpPr/>
            <p:nvPr/>
          </p:nvSpPr>
          <p:spPr>
            <a:xfrm flipV="1">
              <a:off x="-151920" y="1999080"/>
              <a:ext cx="1833480" cy="59796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38160">
              <a:solidFill>
                <a:srgbClr val="00b050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Productio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AutoShape 6"/>
            <p:cNvSpPr/>
            <p:nvPr/>
          </p:nvSpPr>
          <p:spPr>
            <a:xfrm flipV="1">
              <a:off x="100440" y="5303160"/>
              <a:ext cx="2162160" cy="591840"/>
            </a:xfrm>
            <a:prstGeom prst="cube">
              <a:avLst>
                <a:gd name="adj" fmla="val 25000"/>
              </a:avLst>
            </a:prstGeom>
            <a:solidFill>
              <a:srgbClr val="31849b"/>
            </a:solidFill>
            <a:ln w="38160">
              <a:solidFill>
                <a:srgbClr val="31849b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nsumptio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5" name="AutoShape 7"/>
            <p:cNvCxnSpPr/>
            <p:nvPr/>
          </p:nvCxnSpPr>
          <p:spPr>
            <a:xfrm flipV="1">
              <a:off x="-152280" y="1805760"/>
              <a:ext cx="8460720" cy="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6" name="AutoShape 8"/>
            <p:cNvSpPr/>
            <p:nvPr/>
          </p:nvSpPr>
          <p:spPr>
            <a:xfrm flipV="1">
              <a:off x="3110400" y="1999080"/>
              <a:ext cx="4451400" cy="51984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38160">
              <a:solidFill>
                <a:srgbClr val="00b050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Smallholder dairy farmer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AutoShape 9"/>
            <p:cNvSpPr/>
            <p:nvPr/>
          </p:nvSpPr>
          <p:spPr>
            <a:xfrm flipV="1">
              <a:off x="4172760" y="2926800"/>
              <a:ext cx="1568160" cy="432000"/>
            </a:xfrm>
            <a:prstGeom prst="cube">
              <a:avLst>
                <a:gd name="adj" fmla="val 25000"/>
              </a:avLst>
            </a:prstGeom>
            <a:solidFill>
              <a:srgbClr val="d99594"/>
            </a:solidFill>
            <a:ln w="3816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Unions/coop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AutoShape 10"/>
            <p:cNvSpPr/>
            <p:nvPr/>
          </p:nvSpPr>
          <p:spPr>
            <a:xfrm flipV="1">
              <a:off x="2098800" y="2926800"/>
              <a:ext cx="1605960" cy="448560"/>
            </a:xfrm>
            <a:prstGeom prst="cube">
              <a:avLst>
                <a:gd name="adj" fmla="val 25000"/>
              </a:avLst>
            </a:prstGeom>
            <a:solidFill>
              <a:srgbClr val="d99594"/>
            </a:solidFill>
            <a:ln w="3816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dividual trader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AutoShape 11"/>
            <p:cNvSpPr/>
            <p:nvPr/>
          </p:nvSpPr>
          <p:spPr>
            <a:xfrm flipV="1">
              <a:off x="6309720" y="2876400"/>
              <a:ext cx="2149560" cy="498960"/>
            </a:xfrm>
            <a:prstGeom prst="cube">
              <a:avLst>
                <a:gd name="adj" fmla="val 25000"/>
              </a:avLst>
            </a:prstGeom>
            <a:solidFill>
              <a:srgbClr val="d99594"/>
            </a:solidFill>
            <a:ln w="3816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llectors of milk processing plant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AutoShape 12"/>
            <p:cNvSpPr/>
            <p:nvPr/>
          </p:nvSpPr>
          <p:spPr>
            <a:xfrm flipV="1">
              <a:off x="2427480" y="3804480"/>
              <a:ext cx="1593000" cy="449280"/>
            </a:xfrm>
            <a:prstGeom prst="cube">
              <a:avLst>
                <a:gd name="adj" fmla="val 25000"/>
              </a:avLst>
            </a:prstGeom>
            <a:solidFill>
              <a:srgbClr val="9bbb59"/>
            </a:solidFill>
            <a:ln w="3816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mall scale processor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AutoShape 13"/>
            <p:cNvSpPr/>
            <p:nvPr/>
          </p:nvSpPr>
          <p:spPr>
            <a:xfrm flipV="1">
              <a:off x="6486840" y="3854160"/>
              <a:ext cx="1820880" cy="399600"/>
            </a:xfrm>
            <a:prstGeom prst="cube">
              <a:avLst>
                <a:gd name="adj" fmla="val 25000"/>
              </a:avLst>
            </a:prstGeom>
            <a:solidFill>
              <a:srgbClr val="9bbb59"/>
            </a:solidFill>
            <a:ln w="3816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rocessing plant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14"/>
            <p:cNvSpPr/>
            <p:nvPr/>
          </p:nvSpPr>
          <p:spPr>
            <a:xfrm flipV="1">
              <a:off x="-151920" y="4488840"/>
              <a:ext cx="2162160" cy="591840"/>
            </a:xfrm>
            <a:prstGeom prst="cube">
              <a:avLst>
                <a:gd name="adj" fmla="val 25000"/>
              </a:avLst>
            </a:prstGeom>
            <a:solidFill>
              <a:srgbClr val="a80ac2"/>
            </a:solidFill>
            <a:ln w="38160">
              <a:solidFill>
                <a:srgbClr val="a80ac2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Retailing (processed milk)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AutoShape 15"/>
            <p:cNvSpPr/>
            <p:nvPr/>
          </p:nvSpPr>
          <p:spPr>
            <a:xfrm flipV="1">
              <a:off x="2616840" y="4560840"/>
              <a:ext cx="1415880" cy="464400"/>
            </a:xfrm>
            <a:prstGeom prst="cube">
              <a:avLst>
                <a:gd name="adj" fmla="val 25000"/>
              </a:avLst>
            </a:prstGeom>
            <a:solidFill>
              <a:srgbClr val="a80ac2"/>
            </a:solidFill>
            <a:ln w="38160">
              <a:solidFill>
                <a:srgbClr val="a80ac2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mall shop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AutoShape 16"/>
            <p:cNvSpPr/>
            <p:nvPr/>
          </p:nvSpPr>
          <p:spPr>
            <a:xfrm flipV="1">
              <a:off x="5007240" y="5459760"/>
              <a:ext cx="1391040" cy="494280"/>
            </a:xfrm>
            <a:prstGeom prst="cube">
              <a:avLst>
                <a:gd name="adj" fmla="val 25000"/>
              </a:avLst>
            </a:prstGeom>
            <a:solidFill>
              <a:srgbClr val="31849b"/>
            </a:solidFill>
            <a:ln w="38160">
              <a:solidFill>
                <a:srgbClr val="31849b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Hotels and restaurant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AutoShape 17"/>
            <p:cNvSpPr/>
            <p:nvPr/>
          </p:nvSpPr>
          <p:spPr>
            <a:xfrm flipV="1">
              <a:off x="6183360" y="4603320"/>
              <a:ext cx="1378080" cy="477360"/>
            </a:xfrm>
            <a:prstGeom prst="cube">
              <a:avLst>
                <a:gd name="adj" fmla="val 25000"/>
              </a:avLst>
            </a:prstGeom>
            <a:solidFill>
              <a:srgbClr val="a80ac2"/>
            </a:solidFill>
            <a:ln w="38160">
              <a:solidFill>
                <a:srgbClr val="a80ac2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uper market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AutoShape 18"/>
            <p:cNvSpPr/>
            <p:nvPr/>
          </p:nvSpPr>
          <p:spPr>
            <a:xfrm flipV="1">
              <a:off x="7004880" y="5459760"/>
              <a:ext cx="1454040" cy="494280"/>
            </a:xfrm>
            <a:prstGeom prst="cube">
              <a:avLst>
                <a:gd name="adj" fmla="val 25000"/>
              </a:avLst>
            </a:prstGeom>
            <a:solidFill>
              <a:srgbClr val="31849b"/>
            </a:solidFill>
            <a:ln w="38160">
              <a:solidFill>
                <a:srgbClr val="31849b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stitution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AutoShape 19"/>
            <p:cNvSpPr/>
            <p:nvPr/>
          </p:nvSpPr>
          <p:spPr>
            <a:xfrm flipV="1">
              <a:off x="2710800" y="5440680"/>
              <a:ext cx="1593000" cy="454320"/>
            </a:xfrm>
            <a:prstGeom prst="cube">
              <a:avLst>
                <a:gd name="adj" fmla="val 25000"/>
              </a:avLst>
            </a:prstGeom>
            <a:solidFill>
              <a:srgbClr val="31849b"/>
            </a:solidFill>
            <a:ln w="38160">
              <a:solidFill>
                <a:srgbClr val="31849b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Household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AutoShape 20"/>
            <p:cNvSpPr/>
            <p:nvPr/>
          </p:nvSpPr>
          <p:spPr>
            <a:xfrm flipV="1">
              <a:off x="4717800" y="2519280"/>
              <a:ext cx="429480" cy="356760"/>
            </a:xfrm>
            <a:prstGeom prst="upArrow">
              <a:avLst>
                <a:gd name="adj1" fmla="val 50000"/>
                <a:gd name="adj2" fmla="val 22903"/>
              </a:avLst>
            </a:prstGeom>
            <a:solidFill>
              <a:srgbClr val="00b050"/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V="1" rot="5400000">
              <a:off x="3632040" y="1633680"/>
              <a:ext cx="226800" cy="22575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-360 h 2257560"/>
                <a:gd name="textAreaBottom" fmla="*/ 2257560 h 2257560"/>
              </a:gdLst>
              <a:ahLst/>
              <a:rect l="textAreaLeft" t="textAreaTop" r="textAreaRight" b="textAreaBottom"/>
              <a:pathLst>
                <a:path w="543162" h="1609012">
                  <a:moveTo>
                    <a:pt x="0" y="1609012"/>
                  </a:moveTo>
                  <a:lnTo>
                    <a:pt x="0" y="305529"/>
                  </a:lnTo>
                  <a:cubicBezTo>
                    <a:pt x="0" y="174288"/>
                    <a:pt x="106392" y="67896"/>
                    <a:pt x="237633" y="67896"/>
                  </a:cubicBezTo>
                  <a:lnTo>
                    <a:pt x="407372" y="67895"/>
                  </a:lnTo>
                  <a:lnTo>
                    <a:pt x="407372" y="0"/>
                  </a:lnTo>
                  <a:lnTo>
                    <a:pt x="543162" y="135791"/>
                  </a:lnTo>
                  <a:lnTo>
                    <a:pt x="407372" y="271581"/>
                  </a:lnTo>
                  <a:lnTo>
                    <a:pt x="407372" y="203686"/>
                  </a:lnTo>
                  <a:lnTo>
                    <a:pt x="237633" y="203686"/>
                  </a:lnTo>
                  <a:cubicBezTo>
                    <a:pt x="181387" y="203686"/>
                    <a:pt x="135790" y="249283"/>
                    <a:pt x="135790" y="305529"/>
                  </a:cubicBezTo>
                  <a:cubicBezTo>
                    <a:pt x="135790" y="740023"/>
                    <a:pt x="135791" y="1174518"/>
                    <a:pt x="135791" y="1609012"/>
                  </a:cubicBezTo>
                  <a:lnTo>
                    <a:pt x="0" y="1609012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flipV="1" rot="16200000">
              <a:off x="6141960" y="1514520"/>
              <a:ext cx="226800" cy="2496960"/>
            </a:xfrm>
            <a:custGeom>
              <a:avLst/>
              <a:gdLst>
                <a:gd name="textAreaLeft" fmla="*/ 360 w 226800"/>
                <a:gd name="textAreaRight" fmla="*/ 227520 w 226800"/>
                <a:gd name="textAreaTop" fmla="*/ 360 h 2496960"/>
                <a:gd name="textAreaBottom" fmla="*/ 2497680 h 2496960"/>
              </a:gdLst>
              <a:ahLst/>
              <a:rect l="textAreaLeft" t="textAreaTop" r="textAreaRight" b="textAreaBottom"/>
              <a:pathLst>
                <a:path w="543162" h="1609012">
                  <a:moveTo>
                    <a:pt x="0" y="1609012"/>
                  </a:moveTo>
                  <a:lnTo>
                    <a:pt x="0" y="305529"/>
                  </a:lnTo>
                  <a:cubicBezTo>
                    <a:pt x="0" y="174288"/>
                    <a:pt x="106392" y="67896"/>
                    <a:pt x="237633" y="67896"/>
                  </a:cubicBezTo>
                  <a:lnTo>
                    <a:pt x="407372" y="67895"/>
                  </a:lnTo>
                  <a:lnTo>
                    <a:pt x="407372" y="0"/>
                  </a:lnTo>
                  <a:lnTo>
                    <a:pt x="543162" y="135791"/>
                  </a:lnTo>
                  <a:lnTo>
                    <a:pt x="407372" y="271581"/>
                  </a:lnTo>
                  <a:lnTo>
                    <a:pt x="407372" y="203686"/>
                  </a:lnTo>
                  <a:lnTo>
                    <a:pt x="237633" y="203686"/>
                  </a:lnTo>
                  <a:cubicBezTo>
                    <a:pt x="181387" y="203686"/>
                    <a:pt x="135790" y="249283"/>
                    <a:pt x="135790" y="305529"/>
                  </a:cubicBezTo>
                  <a:cubicBezTo>
                    <a:pt x="135790" y="740023"/>
                    <a:pt x="135791" y="1174518"/>
                    <a:pt x="135791" y="1609012"/>
                  </a:cubicBezTo>
                  <a:lnTo>
                    <a:pt x="0" y="1609012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AutoShape 23"/>
            <p:cNvSpPr/>
            <p:nvPr/>
          </p:nvSpPr>
          <p:spPr>
            <a:xfrm flipV="1" rot="16200000">
              <a:off x="3817800" y="2931840"/>
              <a:ext cx="242280" cy="467640"/>
            </a:xfrm>
            <a:prstGeom prst="upArrow">
              <a:avLst>
                <a:gd name="adj1" fmla="val 50000"/>
                <a:gd name="adj2" fmla="val 52508"/>
              </a:avLst>
            </a:prstGeom>
            <a:solidFill>
              <a:srgbClr val="d99594"/>
            </a:solidFill>
            <a:ln w="9360">
              <a:solidFill>
                <a:srgbClr val="d99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AutoShape 82"/>
            <p:cNvSpPr/>
            <p:nvPr/>
          </p:nvSpPr>
          <p:spPr>
            <a:xfrm flipV="1" rot="212400">
              <a:off x="3033720" y="3228840"/>
              <a:ext cx="4469760" cy="511200"/>
            </a:xfrm>
            <a:custGeom>
              <a:avLst/>
              <a:gdLst>
                <a:gd name="textAreaLeft" fmla="*/ 654120 w 4469760"/>
                <a:gd name="textAreaRight" fmla="*/ 3815640 w 4469760"/>
                <a:gd name="textAreaTop" fmla="*/ 74880 h 511200"/>
                <a:gd name="textAreaBottom" fmla="*/ 436320 h 51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16" y="11883"/>
                  </a:moveTo>
                  <a:cubicBezTo>
                    <a:pt x="19760" y="11524"/>
                    <a:pt x="19782" y="11162"/>
                    <a:pt x="19782" y="10800"/>
                  </a:cubicBezTo>
                  <a:cubicBezTo>
                    <a:pt x="19782" y="5839"/>
                    <a:pt x="15760" y="1818"/>
                    <a:pt x="10800" y="1818"/>
                  </a:cubicBezTo>
                  <a:cubicBezTo>
                    <a:pt x="5839" y="1818"/>
                    <a:pt x="1818" y="5839"/>
                    <a:pt x="1818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235"/>
                    <a:pt x="21573" y="11670"/>
                    <a:pt x="21521" y="12103"/>
                  </a:cubicBezTo>
                  <a:lnTo>
                    <a:pt x="24201" y="12429"/>
                  </a:lnTo>
                  <a:lnTo>
                    <a:pt x="20183" y="15575"/>
                  </a:lnTo>
                  <a:lnTo>
                    <a:pt x="17036" y="11558"/>
                  </a:lnTo>
                  <a:lnTo>
                    <a:pt x="19716" y="11883"/>
                  </a:lnTo>
                  <a:close/>
                </a:path>
              </a:pathLst>
            </a:custGeom>
            <a:solidFill>
              <a:srgbClr val="d99594"/>
            </a:solidFill>
            <a:ln w="9360">
              <a:solidFill>
                <a:srgbClr val="d99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AutoShape 25"/>
            <p:cNvSpPr/>
            <p:nvPr/>
          </p:nvSpPr>
          <p:spPr>
            <a:xfrm flipV="1" rot="16200000">
              <a:off x="5904000" y="2845440"/>
              <a:ext cx="242280" cy="568800"/>
            </a:xfrm>
            <a:prstGeom prst="upArrow">
              <a:avLst>
                <a:gd name="adj1" fmla="val 50000"/>
                <a:gd name="adj2" fmla="val 64018"/>
              </a:avLst>
            </a:prstGeom>
            <a:solidFill>
              <a:srgbClr val="d99594"/>
            </a:solidFill>
            <a:ln w="9360">
              <a:solidFill>
                <a:srgbClr val="d99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AutoShape 26"/>
            <p:cNvSpPr/>
            <p:nvPr/>
          </p:nvSpPr>
          <p:spPr>
            <a:xfrm flipV="1">
              <a:off x="2427120" y="3375720"/>
              <a:ext cx="429840" cy="428400"/>
            </a:xfrm>
            <a:prstGeom prst="upArrow">
              <a:avLst>
                <a:gd name="adj1" fmla="val 50000"/>
                <a:gd name="adj2" fmla="val 22907"/>
              </a:avLst>
            </a:prstGeom>
            <a:solidFill>
              <a:srgbClr val="d99594"/>
            </a:solidFill>
            <a:ln w="9360">
              <a:solidFill>
                <a:srgbClr val="d995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AutoShape 27"/>
            <p:cNvSpPr/>
            <p:nvPr/>
          </p:nvSpPr>
          <p:spPr>
            <a:xfrm flipV="1">
              <a:off x="7561440" y="3375000"/>
              <a:ext cx="429480" cy="478440"/>
            </a:xfrm>
            <a:prstGeom prst="upArrow">
              <a:avLst>
                <a:gd name="adj1" fmla="val 50000"/>
                <a:gd name="adj2" fmla="val 25513"/>
              </a:avLst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AutoShape 28"/>
            <p:cNvSpPr/>
            <p:nvPr/>
          </p:nvSpPr>
          <p:spPr>
            <a:xfrm flipV="1">
              <a:off x="3211200" y="4200480"/>
              <a:ext cx="429840" cy="360000"/>
            </a:xfrm>
            <a:prstGeom prst="upArrow">
              <a:avLst>
                <a:gd name="adj1" fmla="val 50000"/>
                <a:gd name="adj2" fmla="val 22907"/>
              </a:avLst>
            </a:prstGeom>
            <a:solidFill>
              <a:srgbClr val="bcbc10"/>
            </a:solidFill>
            <a:ln w="9360">
              <a:solidFill>
                <a:srgbClr val="bcbc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AutoShape 29"/>
            <p:cNvSpPr/>
            <p:nvPr/>
          </p:nvSpPr>
          <p:spPr>
            <a:xfrm flipV="1">
              <a:off x="7074360" y="4243320"/>
              <a:ext cx="429480" cy="360000"/>
            </a:xfrm>
            <a:prstGeom prst="upArrow">
              <a:avLst>
                <a:gd name="adj1" fmla="val 50000"/>
                <a:gd name="adj2" fmla="val 22907"/>
              </a:avLst>
            </a:prstGeom>
            <a:solidFill>
              <a:srgbClr val="622423"/>
            </a:solidFill>
            <a:ln w="9360">
              <a:solidFill>
                <a:srgbClr val="622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31"/>
            <p:cNvSpPr/>
            <p:nvPr/>
          </p:nvSpPr>
          <p:spPr>
            <a:xfrm flipV="1" rot="5400000">
              <a:off x="5575680" y="2843280"/>
              <a:ext cx="265680" cy="474192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360 h 4741920"/>
                <a:gd name="textAreaBottom" fmla="*/ 4742640 h 4741920"/>
              </a:gdLst>
              <a:ahLst/>
              <a:rect l="textAreaLeft" t="textAreaTop" r="textAreaRight" b="textAreaBottom"/>
              <a:pathLst>
                <a:path w="543162" h="1609012">
                  <a:moveTo>
                    <a:pt x="0" y="1609012"/>
                  </a:moveTo>
                  <a:lnTo>
                    <a:pt x="0" y="305529"/>
                  </a:lnTo>
                  <a:cubicBezTo>
                    <a:pt x="0" y="174288"/>
                    <a:pt x="106392" y="67896"/>
                    <a:pt x="237633" y="67896"/>
                  </a:cubicBezTo>
                  <a:lnTo>
                    <a:pt x="407372" y="67895"/>
                  </a:lnTo>
                  <a:lnTo>
                    <a:pt x="407372" y="0"/>
                  </a:lnTo>
                  <a:lnTo>
                    <a:pt x="543162" y="135791"/>
                  </a:lnTo>
                  <a:lnTo>
                    <a:pt x="407372" y="271581"/>
                  </a:lnTo>
                  <a:lnTo>
                    <a:pt x="407372" y="203686"/>
                  </a:lnTo>
                  <a:lnTo>
                    <a:pt x="237633" y="203686"/>
                  </a:lnTo>
                  <a:cubicBezTo>
                    <a:pt x="181387" y="203686"/>
                    <a:pt x="135790" y="249283"/>
                    <a:pt x="135790" y="305529"/>
                  </a:cubicBezTo>
                  <a:cubicBezTo>
                    <a:pt x="135790" y="740023"/>
                    <a:pt x="135791" y="1174518"/>
                    <a:pt x="135791" y="1609012"/>
                  </a:cubicBezTo>
                  <a:lnTo>
                    <a:pt x="0" y="1609012"/>
                  </a:lnTo>
                  <a:close/>
                </a:path>
              </a:pathLst>
            </a:custGeom>
            <a:solidFill>
              <a:srgbClr val="622423"/>
            </a:solidFill>
            <a:ln w="9360">
              <a:solidFill>
                <a:srgbClr val="6224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32"/>
            <p:cNvSpPr/>
            <p:nvPr/>
          </p:nvSpPr>
          <p:spPr>
            <a:xfrm flipH="1" flipV="1" rot="16200000">
              <a:off x="4892400" y="2896200"/>
              <a:ext cx="340920" cy="3072600"/>
            </a:xfrm>
            <a:custGeom>
              <a:avLst/>
              <a:gdLst>
                <a:gd name="textAreaLeft" fmla="*/ -360 w 340920"/>
                <a:gd name="textAreaRight" fmla="*/ 340920 w 340920"/>
                <a:gd name="textAreaTop" fmla="*/ -360 h 3072600"/>
                <a:gd name="textAreaBottom" fmla="*/ 3072600 h 3072600"/>
              </a:gdLst>
              <a:ahLst/>
              <a:rect l="textAreaLeft" t="textAreaTop" r="textAreaRight" b="textAreaBottom"/>
              <a:pathLst>
                <a:path w="543162" h="1609012">
                  <a:moveTo>
                    <a:pt x="0" y="1609012"/>
                  </a:moveTo>
                  <a:lnTo>
                    <a:pt x="0" y="305529"/>
                  </a:lnTo>
                  <a:cubicBezTo>
                    <a:pt x="0" y="174288"/>
                    <a:pt x="106392" y="67896"/>
                    <a:pt x="237633" y="67896"/>
                  </a:cubicBezTo>
                  <a:lnTo>
                    <a:pt x="407372" y="67895"/>
                  </a:lnTo>
                  <a:lnTo>
                    <a:pt x="407372" y="0"/>
                  </a:lnTo>
                  <a:lnTo>
                    <a:pt x="543162" y="135791"/>
                  </a:lnTo>
                  <a:lnTo>
                    <a:pt x="407372" y="271581"/>
                  </a:lnTo>
                  <a:lnTo>
                    <a:pt x="407372" y="203686"/>
                  </a:lnTo>
                  <a:lnTo>
                    <a:pt x="237633" y="203686"/>
                  </a:lnTo>
                  <a:cubicBezTo>
                    <a:pt x="181387" y="203686"/>
                    <a:pt x="135790" y="249283"/>
                    <a:pt x="135790" y="305529"/>
                  </a:cubicBezTo>
                  <a:cubicBezTo>
                    <a:pt x="135790" y="740023"/>
                    <a:pt x="135791" y="1174518"/>
                    <a:pt x="135791" y="1609012"/>
                  </a:cubicBezTo>
                  <a:lnTo>
                    <a:pt x="0" y="1609012"/>
                  </a:lnTo>
                  <a:close/>
                </a:path>
              </a:pathLst>
            </a:custGeom>
            <a:solidFill>
              <a:srgbClr val="bcbc10"/>
            </a:solidFill>
            <a:ln w="9360">
              <a:solidFill>
                <a:srgbClr val="bcbc1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AutoShape 32"/>
            <p:cNvSpPr/>
            <p:nvPr/>
          </p:nvSpPr>
          <p:spPr>
            <a:xfrm flipV="1">
              <a:off x="7769880" y="4242600"/>
              <a:ext cx="429840" cy="1217160"/>
            </a:xfrm>
            <a:prstGeom prst="upArrow">
              <a:avLst>
                <a:gd name="adj1" fmla="val 43926"/>
                <a:gd name="adj2" fmla="val 31437"/>
              </a:avLst>
            </a:prstGeom>
            <a:solidFill>
              <a:srgbClr val="622423"/>
            </a:solidFill>
            <a:ln w="9360">
              <a:solidFill>
                <a:srgbClr val="622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AutoShape 33"/>
            <p:cNvSpPr/>
            <p:nvPr/>
          </p:nvSpPr>
          <p:spPr>
            <a:xfrm flipV="1">
              <a:off x="5569560" y="5115960"/>
              <a:ext cx="360720" cy="343800"/>
            </a:xfrm>
            <a:prstGeom prst="upArrow">
              <a:avLst>
                <a:gd name="adj1" fmla="val 50000"/>
                <a:gd name="adj2" fmla="val 22931"/>
              </a:avLst>
            </a:prstGeom>
            <a:solidFill>
              <a:srgbClr val="622423"/>
            </a:solidFill>
            <a:ln w="9360">
              <a:solidFill>
                <a:srgbClr val="622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34"/>
            <p:cNvSpPr/>
            <p:nvPr/>
          </p:nvSpPr>
          <p:spPr>
            <a:xfrm flipV="1">
              <a:off x="7200720" y="5115960"/>
              <a:ext cx="360720" cy="343800"/>
            </a:xfrm>
            <a:prstGeom prst="upArrow">
              <a:avLst>
                <a:gd name="adj1" fmla="val 36917"/>
                <a:gd name="adj2" fmla="val 28671"/>
              </a:avLst>
            </a:prstGeom>
            <a:solidFill>
              <a:srgbClr val="a80ac2"/>
            </a:solidFill>
            <a:ln w="9360">
              <a:solidFill>
                <a:srgbClr val="a80a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35"/>
            <p:cNvSpPr/>
            <p:nvPr/>
          </p:nvSpPr>
          <p:spPr>
            <a:xfrm flipV="1">
              <a:off x="5208480" y="5240520"/>
              <a:ext cx="360720" cy="219600"/>
            </a:xfrm>
            <a:prstGeom prst="upArrow">
              <a:avLst>
                <a:gd name="adj1" fmla="val 50000"/>
                <a:gd name="adj2" fmla="val 22935"/>
              </a:avLst>
            </a:prstGeom>
            <a:solidFill>
              <a:srgbClr val="a80ac2"/>
            </a:solidFill>
            <a:ln w="9360">
              <a:solidFill>
                <a:srgbClr val="a80a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AutoShape 36"/>
            <p:cNvSpPr/>
            <p:nvPr/>
          </p:nvSpPr>
          <p:spPr>
            <a:xfrm flipV="1">
              <a:off x="2616840" y="5025240"/>
              <a:ext cx="492840" cy="399600"/>
            </a:xfrm>
            <a:prstGeom prst="upArrow">
              <a:avLst>
                <a:gd name="adj1" fmla="val 36917"/>
                <a:gd name="adj2" fmla="val 2863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05" name="AutoShape 37"/>
            <p:cNvCxnSpPr/>
            <p:nvPr/>
          </p:nvCxnSpPr>
          <p:spPr>
            <a:xfrm flipV="1">
              <a:off x="100440" y="6013080"/>
              <a:ext cx="8359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6" name="AutoShape 38"/>
            <p:cNvSpPr/>
            <p:nvPr/>
          </p:nvSpPr>
          <p:spPr>
            <a:xfrm flipV="1">
              <a:off x="-92160" y="1142640"/>
              <a:ext cx="1773720" cy="468000"/>
            </a:xfrm>
            <a:prstGeom prst="cube">
              <a:avLst>
                <a:gd name="adj" fmla="val 25976"/>
              </a:avLst>
            </a:prstGeom>
            <a:solidFill>
              <a:srgbClr val="d6e3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put 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ppl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AutoShape 39"/>
            <p:cNvSpPr/>
            <p:nvPr/>
          </p:nvSpPr>
          <p:spPr>
            <a:xfrm flipV="1">
              <a:off x="2086560" y="1206360"/>
              <a:ext cx="1023120" cy="599040"/>
            </a:xfrm>
            <a:prstGeom prst="upArrowCallout">
              <a:avLst>
                <a:gd name="adj1" fmla="val 42702"/>
                <a:gd name="adj2" fmla="val 42698"/>
                <a:gd name="adj3" fmla="val 15273"/>
                <a:gd name="adj4" fmla="val 66660"/>
              </a:avLst>
            </a:prstGeom>
            <a:solidFill>
              <a:srgbClr val="d6e3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Extension service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AutoShape 40"/>
            <p:cNvSpPr/>
            <p:nvPr/>
          </p:nvSpPr>
          <p:spPr>
            <a:xfrm flipV="1">
              <a:off x="3233160" y="1206360"/>
              <a:ext cx="939240" cy="599040"/>
            </a:xfrm>
            <a:prstGeom prst="upArrowCallout">
              <a:avLst>
                <a:gd name="adj1" fmla="val 39201"/>
                <a:gd name="adj2" fmla="val 39198"/>
                <a:gd name="adj3" fmla="val 15278"/>
                <a:gd name="adj4" fmla="val 66660"/>
              </a:avLst>
            </a:prstGeom>
            <a:solidFill>
              <a:srgbClr val="d6e3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Vet service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AutoShape 41"/>
            <p:cNvSpPr/>
            <p:nvPr/>
          </p:nvSpPr>
          <p:spPr>
            <a:xfrm flipV="1">
              <a:off x="5374080" y="1213560"/>
              <a:ext cx="1023120" cy="599040"/>
            </a:xfrm>
            <a:prstGeom prst="upArrowCallout">
              <a:avLst>
                <a:gd name="adj1" fmla="val 42702"/>
                <a:gd name="adj2" fmla="val 42698"/>
                <a:gd name="adj3" fmla="val 15273"/>
                <a:gd name="adj4" fmla="val 66660"/>
              </a:avLst>
            </a:prstGeom>
            <a:solidFill>
              <a:srgbClr val="d6e3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redit service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AutoShape 42"/>
            <p:cNvSpPr/>
            <p:nvPr/>
          </p:nvSpPr>
          <p:spPr>
            <a:xfrm flipV="1">
              <a:off x="7769160" y="1213560"/>
              <a:ext cx="1146240" cy="599040"/>
            </a:xfrm>
            <a:prstGeom prst="upArrowCallout">
              <a:avLst>
                <a:gd name="adj1" fmla="val 51686"/>
                <a:gd name="adj2" fmla="val 51672"/>
                <a:gd name="adj3" fmla="val 16500"/>
                <a:gd name="adj4" fmla="val 66660"/>
              </a:avLst>
            </a:prstGeom>
            <a:solidFill>
              <a:srgbClr val="d6e3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Seeds suppl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AutoShape 43"/>
            <p:cNvSpPr/>
            <p:nvPr/>
          </p:nvSpPr>
          <p:spPr>
            <a:xfrm flipV="1">
              <a:off x="4303440" y="1213560"/>
              <a:ext cx="938880" cy="599040"/>
            </a:xfrm>
            <a:prstGeom prst="upArrowCallout">
              <a:avLst>
                <a:gd name="adj1" fmla="val 39186"/>
                <a:gd name="adj2" fmla="val 39183"/>
                <a:gd name="adj3" fmla="val 15278"/>
                <a:gd name="adj4" fmla="val 66660"/>
              </a:avLst>
            </a:prstGeom>
            <a:solidFill>
              <a:srgbClr val="d6e3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I service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AutoShape 44"/>
            <p:cNvSpPr/>
            <p:nvPr/>
          </p:nvSpPr>
          <p:spPr>
            <a:xfrm flipV="1">
              <a:off x="6537600" y="1206360"/>
              <a:ext cx="1161720" cy="599040"/>
            </a:xfrm>
            <a:prstGeom prst="upArrowCallout">
              <a:avLst>
                <a:gd name="adj1" fmla="val 52905"/>
                <a:gd name="adj2" fmla="val 52891"/>
                <a:gd name="adj3" fmla="val 16667"/>
                <a:gd name="adj4" fmla="val 66660"/>
              </a:avLst>
            </a:prstGeom>
            <a:solidFill>
              <a:srgbClr val="d6e3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Knowledge &amp; Skill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AutoShape 45"/>
            <p:cNvSpPr/>
            <p:nvPr/>
          </p:nvSpPr>
          <p:spPr>
            <a:xfrm flipV="1">
              <a:off x="130680" y="6151320"/>
              <a:ext cx="1806480" cy="554400"/>
            </a:xfrm>
            <a:prstGeom prst="cube">
              <a:avLst>
                <a:gd name="adj" fmla="val 25000"/>
              </a:avLst>
            </a:prstGeom>
            <a:solidFill>
              <a:srgbClr val="fabf8f"/>
            </a:solidFill>
            <a:ln w="3816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Enabling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Environmen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AutoShape 46"/>
            <p:cNvSpPr/>
            <p:nvPr/>
          </p:nvSpPr>
          <p:spPr>
            <a:xfrm flipV="1">
              <a:off x="2159640" y="6077880"/>
              <a:ext cx="1514880" cy="627480"/>
            </a:xfrm>
            <a:prstGeom prst="downArrowCallout">
              <a:avLst>
                <a:gd name="adj1" fmla="val 65950"/>
                <a:gd name="adj2" fmla="val 65944"/>
                <a:gd name="adj3" fmla="val 16667"/>
                <a:gd name="adj4" fmla="val 66667"/>
              </a:avLst>
            </a:prstGeom>
            <a:solidFill>
              <a:srgbClr val="fabf8f"/>
            </a:solidFill>
            <a:ln w="25560">
              <a:solidFill>
                <a:srgbClr val="fab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Land availabilit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AutoShape 47"/>
            <p:cNvSpPr/>
            <p:nvPr/>
          </p:nvSpPr>
          <p:spPr>
            <a:xfrm flipV="1">
              <a:off x="4138560" y="6077880"/>
              <a:ext cx="1415520" cy="627480"/>
            </a:xfrm>
            <a:prstGeom prst="downArrowCallout">
              <a:avLst>
                <a:gd name="adj1" fmla="val 61625"/>
                <a:gd name="adj2" fmla="val 61609"/>
                <a:gd name="adj3" fmla="val 16667"/>
                <a:gd name="adj4" fmla="val 66667"/>
              </a:avLst>
            </a:prstGeom>
            <a:solidFill>
              <a:srgbClr val="fabf8f"/>
            </a:solidFill>
            <a:ln w="25560">
              <a:solidFill>
                <a:srgbClr val="fab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Rules and Regulation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AutoShape 48"/>
            <p:cNvSpPr/>
            <p:nvPr/>
          </p:nvSpPr>
          <p:spPr>
            <a:xfrm flipV="1">
              <a:off x="5922360" y="6077880"/>
              <a:ext cx="1337040" cy="627480"/>
            </a:xfrm>
            <a:prstGeom prst="downArrowCallout">
              <a:avLst>
                <a:gd name="adj1" fmla="val 58208"/>
                <a:gd name="adj2" fmla="val 58193"/>
                <a:gd name="adj3" fmla="val 16667"/>
                <a:gd name="adj4" fmla="val 66667"/>
              </a:avLst>
            </a:prstGeom>
            <a:solidFill>
              <a:srgbClr val="fabf8f"/>
            </a:solidFill>
            <a:ln w="25560">
              <a:solidFill>
                <a:srgbClr val="fab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rough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milk marketing channels identif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666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2826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2826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2826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nnel 1: Total milk produced retained for home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282600" indent="-223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282600" indent="-223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2826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nnel 2: Milk reaching the consumers through formal mark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282600" indent="-223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282600" indent="-223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2826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nnel 3: Milk reaching the consumers through informal mark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ore functions and activities in the feed value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Notched Right Arrow 4"/>
          <p:cNvSpPr/>
          <p:nvPr/>
        </p:nvSpPr>
        <p:spPr>
          <a:xfrm>
            <a:off x="209520" y="1498680"/>
            <a:ext cx="1401840" cy="701640"/>
          </a:xfrm>
          <a:custGeom>
            <a:avLst/>
            <a:gdLst>
              <a:gd name="textAreaLeft" fmla="*/ 105120 w 1401840"/>
              <a:gd name="textAreaRight" fmla="*/ 1296720 w 14018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79" y="0"/>
                </a:lnTo>
                <a:lnTo>
                  <a:pt x="19979" y="0"/>
                </a:lnTo>
                <a:lnTo>
                  <a:pt x="21600" y="10800"/>
                </a:lnTo>
                <a:lnTo>
                  <a:pt x="19979" y="21600"/>
                </a:lnTo>
                <a:lnTo>
                  <a:pt x="19979" y="21600"/>
                </a:lnTo>
                <a:lnTo>
                  <a:pt x="0" y="21600"/>
                </a:lnTo>
                <a:lnTo>
                  <a:pt x="1621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supp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Notched Right Arrow 5"/>
          <p:cNvSpPr/>
          <p:nvPr/>
        </p:nvSpPr>
        <p:spPr>
          <a:xfrm>
            <a:off x="1587600" y="1498680"/>
            <a:ext cx="1320840" cy="701640"/>
          </a:xfrm>
          <a:custGeom>
            <a:avLst/>
            <a:gdLst>
              <a:gd name="textAreaLeft" fmla="*/ 99720 w 1320840"/>
              <a:gd name="textAreaRight" fmla="*/ 1221120 w 13208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66" y="0"/>
                </a:lnTo>
                <a:lnTo>
                  <a:pt x="19966" y="0"/>
                </a:lnTo>
                <a:lnTo>
                  <a:pt x="21600" y="10800"/>
                </a:lnTo>
                <a:lnTo>
                  <a:pt x="19966" y="21600"/>
                </a:lnTo>
                <a:lnTo>
                  <a:pt x="19966" y="21600"/>
                </a:lnTo>
                <a:lnTo>
                  <a:pt x="0" y="21600"/>
                </a:lnTo>
                <a:lnTo>
                  <a:pt x="1634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c6d9f1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Notched Right Arrow 6"/>
          <p:cNvSpPr/>
          <p:nvPr/>
        </p:nvSpPr>
        <p:spPr>
          <a:xfrm>
            <a:off x="2868480" y="1490760"/>
            <a:ext cx="1792440" cy="701640"/>
          </a:xfrm>
          <a:custGeom>
            <a:avLst/>
            <a:gdLst>
              <a:gd name="textAreaLeft" fmla="*/ 110880 w 1792440"/>
              <a:gd name="textAreaRight" fmla="*/ 1681560 w 17924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62" y="0"/>
                </a:lnTo>
                <a:lnTo>
                  <a:pt x="20262" y="0"/>
                </a:lnTo>
                <a:lnTo>
                  <a:pt x="21600" y="10800"/>
                </a:lnTo>
                <a:lnTo>
                  <a:pt x="20262" y="21600"/>
                </a:lnTo>
                <a:lnTo>
                  <a:pt x="20262" y="21600"/>
                </a:lnTo>
                <a:lnTo>
                  <a:pt x="0" y="21600"/>
                </a:lnTo>
                <a:lnTo>
                  <a:pt x="1338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f2dcdb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cess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Notched Right Arrow 7"/>
          <p:cNvSpPr/>
          <p:nvPr/>
        </p:nvSpPr>
        <p:spPr>
          <a:xfrm>
            <a:off x="4619520" y="1490760"/>
            <a:ext cx="1838520" cy="701640"/>
          </a:xfrm>
          <a:custGeom>
            <a:avLst/>
            <a:gdLst>
              <a:gd name="textAreaLeft" fmla="*/ 137880 w 1838520"/>
              <a:gd name="textAreaRight" fmla="*/ 1700640 w 183852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80" y="0"/>
                </a:lnTo>
                <a:lnTo>
                  <a:pt x="19980" y="0"/>
                </a:lnTo>
                <a:lnTo>
                  <a:pt x="21600" y="10800"/>
                </a:lnTo>
                <a:lnTo>
                  <a:pt x="19980" y="21600"/>
                </a:lnTo>
                <a:lnTo>
                  <a:pt x="19980" y="21600"/>
                </a:lnTo>
                <a:lnTo>
                  <a:pt x="0" y="21600"/>
                </a:lnTo>
                <a:lnTo>
                  <a:pt x="1620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ccc1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arke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Up Arrow Callout 8"/>
          <p:cNvSpPr/>
          <p:nvPr/>
        </p:nvSpPr>
        <p:spPr>
          <a:xfrm>
            <a:off x="81000" y="2193840"/>
            <a:ext cx="1442880" cy="1997280"/>
          </a:xfrm>
          <a:prstGeom prst="upArrowCallout">
            <a:avLst>
              <a:gd name="adj1" fmla="val 23752"/>
              <a:gd name="adj2" fmla="val 25000"/>
              <a:gd name="adj3" fmla="val 20603"/>
              <a:gd name="adj4" fmla="val 54519"/>
            </a:avLst>
          </a:prstGeom>
          <a:solidFill>
            <a:srgbClr val="00b05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eed supp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ly of fertilize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ly of wheat, noug, linseed, cotton seed  et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Up Arrow Callout 9"/>
          <p:cNvSpPr/>
          <p:nvPr/>
        </p:nvSpPr>
        <p:spPr>
          <a:xfrm>
            <a:off x="1627200" y="2173320"/>
            <a:ext cx="1192320" cy="2131920"/>
          </a:xfrm>
          <a:prstGeom prst="upArrowCallout">
            <a:avLst>
              <a:gd name="adj1" fmla="val 25002"/>
              <a:gd name="adj2" fmla="val 25000"/>
              <a:gd name="adj3" fmla="val 29826"/>
              <a:gd name="adj4" fmla="val 54519"/>
            </a:avLst>
          </a:prstGeom>
          <a:solidFill>
            <a:srgbClr val="c6d9f1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680" indent="-58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land prepa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8680" indent="-58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lan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8680" indent="-58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weed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8680" indent="-58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arves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Up Arrow Callout 10"/>
          <p:cNvSpPr/>
          <p:nvPr/>
        </p:nvSpPr>
        <p:spPr>
          <a:xfrm>
            <a:off x="3027240" y="2193840"/>
            <a:ext cx="1392480" cy="2530440"/>
          </a:xfrm>
          <a:prstGeom prst="upArrowCallout">
            <a:avLst>
              <a:gd name="adj1" fmla="val 28503"/>
              <a:gd name="adj2" fmla="val 25000"/>
              <a:gd name="adj3" fmla="val 14092"/>
              <a:gd name="adj4" fmla="val 27866"/>
            </a:avLst>
          </a:prstGeom>
          <a:solidFill>
            <a:srgbClr val="f2dcdb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al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tack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torag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Grinding/crush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ix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rand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acka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Up Arrow Callout 11"/>
          <p:cNvSpPr/>
          <p:nvPr/>
        </p:nvSpPr>
        <p:spPr>
          <a:xfrm>
            <a:off x="6669000" y="2173320"/>
            <a:ext cx="1611360" cy="1789200"/>
          </a:xfrm>
          <a:prstGeom prst="upArrowCallout">
            <a:avLst>
              <a:gd name="adj1" fmla="val 25002"/>
              <a:gd name="adj2" fmla="val 25000"/>
              <a:gd name="adj3" fmla="val 11736"/>
              <a:gd name="adj4" fmla="val 38507"/>
            </a:avLst>
          </a:prstGeom>
          <a:solidFill>
            <a:srgbClr val="fdea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Feed Formul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eat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lement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Feed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109"/>
          <p:cNvSpPr/>
          <p:nvPr/>
        </p:nvSpPr>
        <p:spPr>
          <a:xfrm>
            <a:off x="6340320" y="1490760"/>
            <a:ext cx="2041560" cy="709560"/>
          </a:xfrm>
          <a:custGeom>
            <a:avLst/>
            <a:gdLst>
              <a:gd name="textAreaLeft" fmla="*/ 153000 w 2041560"/>
              <a:gd name="textAreaRight" fmla="*/ 1888560 w 204156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79" y="0"/>
                </a:lnTo>
                <a:lnTo>
                  <a:pt x="19979" y="0"/>
                </a:lnTo>
                <a:lnTo>
                  <a:pt x="21600" y="10800"/>
                </a:lnTo>
                <a:lnTo>
                  <a:pt x="19979" y="21600"/>
                </a:lnTo>
                <a:lnTo>
                  <a:pt x="19979" y="21600"/>
                </a:lnTo>
                <a:lnTo>
                  <a:pt x="0" y="21600"/>
                </a:lnTo>
                <a:lnTo>
                  <a:pt x="1621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fdea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onsump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110"/>
          <p:cNvSpPr/>
          <p:nvPr/>
        </p:nvSpPr>
        <p:spPr>
          <a:xfrm>
            <a:off x="4800600" y="2193840"/>
            <a:ext cx="1657440" cy="2111400"/>
          </a:xfrm>
          <a:prstGeom prst="upArrowCallout">
            <a:avLst>
              <a:gd name="adj1" fmla="val 25002"/>
              <a:gd name="adj2" fmla="val 25000"/>
              <a:gd name="adj3" fmla="val 14644"/>
              <a:gd name="adj4" fmla="val 34868"/>
            </a:avLst>
          </a:prstGeom>
          <a:solidFill>
            <a:srgbClr val="ccc1da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ansport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torag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tail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istribu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Quality  assess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Feed VC Actors and Major Chann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39"/>
          <p:cNvGrpSpPr/>
          <p:nvPr/>
        </p:nvGrpSpPr>
        <p:grpSpPr>
          <a:xfrm>
            <a:off x="609480" y="1235160"/>
            <a:ext cx="7925040" cy="5241960"/>
            <a:chOff x="609480" y="1235160"/>
            <a:chExt cx="7925040" cy="5241960"/>
          </a:xfrm>
        </p:grpSpPr>
        <p:sp>
          <p:nvSpPr>
            <p:cNvPr id="132" name="Freeform 40"/>
            <p:cNvSpPr/>
            <p:nvPr/>
          </p:nvSpPr>
          <p:spPr>
            <a:xfrm rot="16200000">
              <a:off x="5393520" y="827640"/>
              <a:ext cx="712080" cy="4759920"/>
            </a:xfrm>
            <a:custGeom>
              <a:avLst/>
              <a:gdLst>
                <a:gd name="textAreaLeft" fmla="*/ 0 w 712080"/>
                <a:gd name="textAreaRight" fmla="*/ 712440 w 712080"/>
                <a:gd name="textAreaTop" fmla="*/ 0 h 4759920"/>
                <a:gd name="textAreaBottom" fmla="*/ 4760280 h 4759920"/>
              </a:gdLst>
              <a:ahLst/>
              <a:rect l="textAreaLeft" t="textAreaTop" r="textAreaRight" b="textAreaBottom"/>
              <a:pathLst>
                <a:path w="543162" h="1609012">
                  <a:moveTo>
                    <a:pt x="0" y="1609012"/>
                  </a:moveTo>
                  <a:lnTo>
                    <a:pt x="0" y="305529"/>
                  </a:lnTo>
                  <a:cubicBezTo>
                    <a:pt x="0" y="174288"/>
                    <a:pt x="106392" y="67896"/>
                    <a:pt x="237633" y="67896"/>
                  </a:cubicBezTo>
                  <a:lnTo>
                    <a:pt x="407372" y="67895"/>
                  </a:lnTo>
                  <a:lnTo>
                    <a:pt x="407372" y="0"/>
                  </a:lnTo>
                  <a:lnTo>
                    <a:pt x="543162" y="135791"/>
                  </a:lnTo>
                  <a:lnTo>
                    <a:pt x="407372" y="271581"/>
                  </a:lnTo>
                  <a:lnTo>
                    <a:pt x="407372" y="203686"/>
                  </a:lnTo>
                  <a:lnTo>
                    <a:pt x="237633" y="203686"/>
                  </a:lnTo>
                  <a:cubicBezTo>
                    <a:pt x="181387" y="203686"/>
                    <a:pt x="135790" y="249283"/>
                    <a:pt x="135790" y="305529"/>
                  </a:cubicBezTo>
                  <a:cubicBezTo>
                    <a:pt x="135790" y="740023"/>
                    <a:pt x="135791" y="1174518"/>
                    <a:pt x="135791" y="1609012"/>
                  </a:cubicBezTo>
                  <a:lnTo>
                    <a:pt x="0" y="1609012"/>
                  </a:lnTo>
                  <a:close/>
                </a:path>
              </a:pathLst>
            </a:custGeom>
            <a:solidFill>
              <a:srgbClr val="d9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1"/>
            <p:cNvSpPr/>
            <p:nvPr/>
          </p:nvSpPr>
          <p:spPr>
            <a:xfrm flipH="1" rot="5400000">
              <a:off x="5245560" y="799200"/>
              <a:ext cx="925560" cy="4836960"/>
            </a:xfrm>
            <a:custGeom>
              <a:avLst/>
              <a:gdLst>
                <a:gd name="textAreaLeft" fmla="*/ -360 w 925560"/>
                <a:gd name="textAreaRight" fmla="*/ 925560 w 925560"/>
                <a:gd name="textAreaTop" fmla="*/ 0 h 4836960"/>
                <a:gd name="textAreaBottom" fmla="*/ 4837320 h 4836960"/>
              </a:gdLst>
              <a:ahLst/>
              <a:rect l="textAreaLeft" t="textAreaTop" r="textAreaRight" b="textAreaBottom"/>
              <a:pathLst>
                <a:path w="543162" h="1609012">
                  <a:moveTo>
                    <a:pt x="0" y="1609012"/>
                  </a:moveTo>
                  <a:lnTo>
                    <a:pt x="0" y="305529"/>
                  </a:lnTo>
                  <a:cubicBezTo>
                    <a:pt x="0" y="174288"/>
                    <a:pt x="106392" y="67896"/>
                    <a:pt x="237633" y="67896"/>
                  </a:cubicBezTo>
                  <a:lnTo>
                    <a:pt x="407372" y="67895"/>
                  </a:lnTo>
                  <a:lnTo>
                    <a:pt x="407372" y="0"/>
                  </a:lnTo>
                  <a:lnTo>
                    <a:pt x="543162" y="135791"/>
                  </a:lnTo>
                  <a:lnTo>
                    <a:pt x="407372" y="271581"/>
                  </a:lnTo>
                  <a:lnTo>
                    <a:pt x="407372" y="203686"/>
                  </a:lnTo>
                  <a:lnTo>
                    <a:pt x="237633" y="203686"/>
                  </a:lnTo>
                  <a:cubicBezTo>
                    <a:pt x="181387" y="203686"/>
                    <a:pt x="135790" y="249283"/>
                    <a:pt x="135790" y="305529"/>
                  </a:cubicBezTo>
                  <a:cubicBezTo>
                    <a:pt x="135790" y="740023"/>
                    <a:pt x="135791" y="1174518"/>
                    <a:pt x="135791" y="1609012"/>
                  </a:cubicBezTo>
                  <a:lnTo>
                    <a:pt x="0" y="1609012"/>
                  </a:lnTo>
                  <a:close/>
                </a:path>
              </a:pathLst>
            </a:custGeom>
            <a:solidFill>
              <a:srgbClr val="0070c0"/>
            </a:solidFill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4" name="Group 42"/>
            <p:cNvGrpSpPr/>
            <p:nvPr/>
          </p:nvGrpSpPr>
          <p:grpSpPr>
            <a:xfrm>
              <a:off x="609480" y="1235160"/>
              <a:ext cx="7925040" cy="5241960"/>
              <a:chOff x="609480" y="1235160"/>
              <a:chExt cx="7925040" cy="5241960"/>
            </a:xfrm>
          </p:grpSpPr>
          <p:sp>
            <p:nvSpPr>
              <p:cNvPr id="135" name="AutoShape 51"/>
              <p:cNvSpPr/>
              <p:nvPr/>
            </p:nvSpPr>
            <p:spPr>
              <a:xfrm>
                <a:off x="708840" y="3667320"/>
                <a:ext cx="1557360" cy="795600"/>
              </a:xfrm>
              <a:prstGeom prst="cube">
                <a:avLst>
                  <a:gd name="adj" fmla="val 25000"/>
                </a:avLst>
              </a:prstGeom>
              <a:solidFill>
                <a:srgbClr val="0070c0"/>
              </a:solidFill>
              <a:ln w="38160">
                <a:solidFill>
                  <a:srgbClr val="0070c0"/>
                </a:solidFill>
                <a:miter/>
              </a:ln>
              <a:effectLst>
                <a:outerShdw dist="17819" dir="2700000" blurRad="0" rotWithShape="0">
                  <a:srgbClr val="974706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Marketing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6" name="Group 44"/>
              <p:cNvGrpSpPr/>
              <p:nvPr/>
            </p:nvGrpSpPr>
            <p:grpSpPr>
              <a:xfrm>
                <a:off x="609480" y="1235160"/>
                <a:ext cx="7925040" cy="5241960"/>
                <a:chOff x="609480" y="1235160"/>
                <a:chExt cx="7925040" cy="5241960"/>
              </a:xfrm>
            </p:grpSpPr>
            <p:sp>
              <p:nvSpPr>
                <p:cNvPr id="137" name="AutoShape 50"/>
                <p:cNvSpPr/>
                <p:nvPr/>
              </p:nvSpPr>
              <p:spPr>
                <a:xfrm>
                  <a:off x="609480" y="2135520"/>
                  <a:ext cx="1579680" cy="744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2d050"/>
                </a:solidFill>
                <a:ln w="38160">
                  <a:solidFill>
                    <a:srgbClr val="92d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Consump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" name="AutoShape 52"/>
                <p:cNvSpPr/>
                <p:nvPr/>
              </p:nvSpPr>
              <p:spPr>
                <a:xfrm>
                  <a:off x="636480" y="1245240"/>
                  <a:ext cx="1602360" cy="773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abf8f"/>
                </a:solidFill>
                <a:ln w="38160">
                  <a:solidFill>
                    <a:srgbClr val="fabf8f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Enabling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 </a:t>
                  </a: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Environment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" name="AutoShape 53"/>
                <p:cNvSpPr/>
                <p:nvPr/>
              </p:nvSpPr>
              <p:spPr>
                <a:xfrm>
                  <a:off x="609480" y="4797360"/>
                  <a:ext cx="1658160" cy="653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b050"/>
                </a:solidFill>
                <a:ln w="38160">
                  <a:solidFill>
                    <a:srgbClr val="00b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Produc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AutoShape 56"/>
                <p:cNvSpPr/>
                <p:nvPr/>
              </p:nvSpPr>
              <p:spPr>
                <a:xfrm>
                  <a:off x="2534760" y="4951440"/>
                  <a:ext cx="1490040" cy="5007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b050"/>
                </a:solidFill>
                <a:ln w="38160">
                  <a:solidFill>
                    <a:srgbClr val="00b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Smallholder farm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AutoShape 57"/>
                <p:cNvSpPr/>
                <p:nvPr/>
              </p:nvSpPr>
              <p:spPr>
                <a:xfrm>
                  <a:off x="5843520" y="4797360"/>
                  <a:ext cx="2687040" cy="653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b050"/>
                </a:solidFill>
                <a:ln w="38160">
                  <a:solidFill>
                    <a:srgbClr val="00b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Agro-processing industries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AutoShape 58"/>
                <p:cNvSpPr/>
                <p:nvPr/>
              </p:nvSpPr>
              <p:spPr>
                <a:xfrm>
                  <a:off x="2995920" y="4061160"/>
                  <a:ext cx="1366920" cy="6256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70c0"/>
                </a:solidFill>
                <a:ln w="38160">
                  <a:solidFill>
                    <a:srgbClr val="0070c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Trad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AutoShape 59"/>
                <p:cNvSpPr/>
                <p:nvPr/>
              </p:nvSpPr>
              <p:spPr>
                <a:xfrm>
                  <a:off x="5951880" y="3966840"/>
                  <a:ext cx="1366920" cy="6256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70c0"/>
                </a:solidFill>
                <a:ln w="38160">
                  <a:solidFill>
                    <a:srgbClr val="0070c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Unions/coops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AutoShape 60"/>
                <p:cNvSpPr/>
                <p:nvPr/>
              </p:nvSpPr>
              <p:spPr>
                <a:xfrm>
                  <a:off x="2652480" y="2143800"/>
                  <a:ext cx="1490040" cy="689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2d050"/>
                </a:solidFill>
                <a:ln w="38160">
                  <a:solidFill>
                    <a:srgbClr val="92d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Small holder rural farm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AutoShape 61"/>
                <p:cNvSpPr/>
                <p:nvPr/>
              </p:nvSpPr>
              <p:spPr>
                <a:xfrm>
                  <a:off x="4596120" y="2186640"/>
                  <a:ext cx="2039400" cy="646920"/>
                </a:xfrm>
                <a:prstGeom prst="cube">
                  <a:avLst>
                    <a:gd name="adj" fmla="val 18143"/>
                  </a:avLst>
                </a:prstGeom>
                <a:solidFill>
                  <a:srgbClr val="92d050"/>
                </a:solidFill>
                <a:ln w="38160">
                  <a:solidFill>
                    <a:srgbClr val="92d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Institution/colleges, research centers etc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AutoShape 62"/>
                <p:cNvSpPr/>
                <p:nvPr/>
              </p:nvSpPr>
              <p:spPr>
                <a:xfrm>
                  <a:off x="6865200" y="2135520"/>
                  <a:ext cx="1669320" cy="659880"/>
                </a:xfrm>
                <a:prstGeom prst="cube">
                  <a:avLst>
                    <a:gd name="adj" fmla="val 20504"/>
                  </a:avLst>
                </a:prstGeom>
                <a:solidFill>
                  <a:srgbClr val="92d050"/>
                </a:solidFill>
                <a:ln w="38160">
                  <a:solidFill>
                    <a:srgbClr val="92d050"/>
                  </a:solidFill>
                  <a:miter/>
                </a:ln>
                <a:effectLst>
                  <a:outerShdw dist="17819" dir="2700000" blurRad="0" rotWithShape="0">
                    <a:srgbClr val="974706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Urban &amp; peri-urban farm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" name="AutoShape 63"/>
                <p:cNvSpPr/>
                <p:nvPr/>
              </p:nvSpPr>
              <p:spPr>
                <a:xfrm>
                  <a:off x="3574440" y="4686120"/>
                  <a:ext cx="380880" cy="36072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00b050"/>
                </a:solidFill>
                <a:ln w="93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AutoShape 64"/>
                <p:cNvSpPr/>
                <p:nvPr/>
              </p:nvSpPr>
              <p:spPr>
                <a:xfrm>
                  <a:off x="6440040" y="4591800"/>
                  <a:ext cx="380880" cy="456120"/>
                </a:xfrm>
                <a:prstGeom prst="upArrow">
                  <a:avLst>
                    <a:gd name="adj1" fmla="val 50000"/>
                    <a:gd name="adj2" fmla="val 29939"/>
                  </a:avLst>
                </a:prstGeom>
                <a:solidFill>
                  <a:srgbClr val="d995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" name="AutoShape 65"/>
                <p:cNvSpPr/>
                <p:nvPr/>
              </p:nvSpPr>
              <p:spPr>
                <a:xfrm>
                  <a:off x="2607120" y="2802960"/>
                  <a:ext cx="380880" cy="2241360"/>
                </a:xfrm>
                <a:prstGeom prst="upArrow">
                  <a:avLst>
                    <a:gd name="adj1" fmla="val 49806"/>
                    <a:gd name="adj2" fmla="val 96089"/>
                  </a:avLst>
                </a:prstGeom>
                <a:solidFill>
                  <a:srgbClr val="00b050"/>
                </a:solidFill>
                <a:ln w="93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Freeform 58"/>
                <p:cNvSpPr/>
                <p:nvPr/>
              </p:nvSpPr>
              <p:spPr>
                <a:xfrm flipH="1" rot="5400000">
                  <a:off x="4994640" y="622080"/>
                  <a:ext cx="533880" cy="4902120"/>
                </a:xfrm>
                <a:custGeom>
                  <a:avLst/>
                  <a:gdLst>
                    <a:gd name="textAreaLeft" fmla="*/ -360 w 533880"/>
                    <a:gd name="textAreaRight" fmla="*/ 533880 w 533880"/>
                    <a:gd name="textAreaTop" fmla="*/ 0 h 4902120"/>
                    <a:gd name="textAreaBottom" fmla="*/ 4902480 h 4902120"/>
                  </a:gdLst>
                  <a:ahLst/>
                  <a:rect l="textAreaLeft" t="textAreaTop" r="textAreaRight" b="textAreaBottom"/>
                  <a:pathLst>
                    <a:path w="543162" h="1609012">
                      <a:moveTo>
                        <a:pt x="0" y="1609012"/>
                      </a:moveTo>
                      <a:lnTo>
                        <a:pt x="0" y="305529"/>
                      </a:lnTo>
                      <a:cubicBezTo>
                        <a:pt x="0" y="174288"/>
                        <a:pt x="106392" y="67896"/>
                        <a:pt x="237633" y="67896"/>
                      </a:cubicBezTo>
                      <a:lnTo>
                        <a:pt x="407372" y="67895"/>
                      </a:lnTo>
                      <a:lnTo>
                        <a:pt x="407372" y="0"/>
                      </a:lnTo>
                      <a:lnTo>
                        <a:pt x="543162" y="135791"/>
                      </a:lnTo>
                      <a:lnTo>
                        <a:pt x="407372" y="271581"/>
                      </a:lnTo>
                      <a:lnTo>
                        <a:pt x="407372" y="203686"/>
                      </a:lnTo>
                      <a:lnTo>
                        <a:pt x="237633" y="203686"/>
                      </a:lnTo>
                      <a:cubicBezTo>
                        <a:pt x="181387" y="203686"/>
                        <a:pt x="135790" y="249283"/>
                        <a:pt x="135790" y="305529"/>
                      </a:cubicBezTo>
                      <a:cubicBezTo>
                        <a:pt x="135790" y="740023"/>
                        <a:pt x="135791" y="1174518"/>
                        <a:pt x="135791" y="1609012"/>
                      </a:cubicBezTo>
                      <a:lnTo>
                        <a:pt x="0" y="1609012"/>
                      </a:lnTo>
                      <a:close/>
                    </a:path>
                  </a:pathLst>
                </a:custGeom>
                <a:solidFill>
                  <a:srgbClr val="00b050"/>
                </a:solidFill>
                <a:ln w="9360">
                  <a:solidFill>
                    <a:srgbClr val="00b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AutoShape 92"/>
                <p:cNvSpPr/>
                <p:nvPr/>
              </p:nvSpPr>
              <p:spPr>
                <a:xfrm rot="10800000">
                  <a:off x="7859520" y="2811240"/>
                  <a:ext cx="537120" cy="2222280"/>
                </a:xfrm>
                <a:prstGeom prst="downArrow">
                  <a:avLst>
                    <a:gd name="adj1" fmla="val 49843"/>
                    <a:gd name="adj2" fmla="val 85908"/>
                  </a:avLst>
                </a:prstGeom>
                <a:solidFill>
                  <a:srgbClr val="d995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AutoShape 98"/>
                <p:cNvSpPr/>
                <p:nvPr/>
              </p:nvSpPr>
              <p:spPr>
                <a:xfrm rot="10800000">
                  <a:off x="5852520" y="2897280"/>
                  <a:ext cx="537120" cy="668160"/>
                </a:xfrm>
                <a:prstGeom prst="downArrow">
                  <a:avLst>
                    <a:gd name="adj1" fmla="val 49843"/>
                    <a:gd name="adj2" fmla="val 25829"/>
                  </a:avLst>
                </a:prstGeom>
                <a:solidFill>
                  <a:srgbClr val="d995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AutoShape 70"/>
                <p:cNvSpPr/>
                <p:nvPr/>
              </p:nvSpPr>
              <p:spPr>
                <a:xfrm>
                  <a:off x="3050280" y="2837160"/>
                  <a:ext cx="380880" cy="1342440"/>
                </a:xfrm>
                <a:prstGeom prst="upArrow">
                  <a:avLst>
                    <a:gd name="adj1" fmla="val 49806"/>
                    <a:gd name="adj2" fmla="val 57552"/>
                  </a:avLst>
                </a:prstGeom>
                <a:solidFill>
                  <a:srgbClr val="0070c0"/>
                </a:solidFill>
                <a:ln w="93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" name="AutoShape 72"/>
                <p:cNvSpPr/>
                <p:nvPr/>
              </p:nvSpPr>
              <p:spPr>
                <a:xfrm rot="10800000">
                  <a:off x="4794840" y="2802960"/>
                  <a:ext cx="537120" cy="668160"/>
                </a:xfrm>
                <a:prstGeom prst="downArrow">
                  <a:avLst>
                    <a:gd name="adj1" fmla="val 49843"/>
                    <a:gd name="adj2" fmla="val 25829"/>
                  </a:avLst>
                </a:prstGeom>
                <a:solidFill>
                  <a:srgbClr val="0070c0"/>
                </a:solidFill>
                <a:ln w="93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AutoShape 73"/>
                <p:cNvSpPr/>
                <p:nvPr/>
              </p:nvSpPr>
              <p:spPr>
                <a:xfrm rot="10800000">
                  <a:off x="6675120" y="2743200"/>
                  <a:ext cx="402480" cy="1363680"/>
                </a:xfrm>
                <a:prstGeom prst="downArrow">
                  <a:avLst>
                    <a:gd name="adj1" fmla="val 49843"/>
                    <a:gd name="adj2" fmla="val 70352"/>
                  </a:avLst>
                </a:prstGeom>
                <a:solidFill>
                  <a:srgbClr val="e36c0a"/>
                </a:solidFill>
                <a:ln w="25560">
                  <a:solidFill>
                    <a:srgbClr val="e3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6" name="Freeform 64"/>
                <p:cNvSpPr/>
                <p:nvPr/>
              </p:nvSpPr>
              <p:spPr>
                <a:xfrm rot="16200000">
                  <a:off x="4367520" y="1509120"/>
                  <a:ext cx="712080" cy="4078800"/>
                </a:xfrm>
                <a:custGeom>
                  <a:avLst/>
                  <a:gdLst>
                    <a:gd name="textAreaLeft" fmla="*/ 0 w 712080"/>
                    <a:gd name="textAreaRight" fmla="*/ 712440 w 712080"/>
                    <a:gd name="textAreaTop" fmla="*/ 0 h 4078800"/>
                    <a:gd name="textAreaBottom" fmla="*/ 4079160 h 4078800"/>
                  </a:gdLst>
                  <a:ahLst/>
                  <a:rect l="textAreaLeft" t="textAreaTop" r="textAreaRight" b="textAreaBottom"/>
                  <a:pathLst>
                    <a:path w="543162" h="1609012">
                      <a:moveTo>
                        <a:pt x="0" y="1609012"/>
                      </a:moveTo>
                      <a:lnTo>
                        <a:pt x="0" y="305529"/>
                      </a:lnTo>
                      <a:cubicBezTo>
                        <a:pt x="0" y="174288"/>
                        <a:pt x="106392" y="67896"/>
                        <a:pt x="237633" y="67896"/>
                      </a:cubicBezTo>
                      <a:lnTo>
                        <a:pt x="407372" y="67895"/>
                      </a:lnTo>
                      <a:lnTo>
                        <a:pt x="407372" y="0"/>
                      </a:lnTo>
                      <a:lnTo>
                        <a:pt x="543162" y="135791"/>
                      </a:lnTo>
                      <a:lnTo>
                        <a:pt x="407372" y="271581"/>
                      </a:lnTo>
                      <a:lnTo>
                        <a:pt x="407372" y="203686"/>
                      </a:lnTo>
                      <a:lnTo>
                        <a:pt x="237633" y="203686"/>
                      </a:lnTo>
                      <a:cubicBezTo>
                        <a:pt x="181387" y="203686"/>
                        <a:pt x="135790" y="249283"/>
                        <a:pt x="135790" y="305529"/>
                      </a:cubicBezTo>
                      <a:cubicBezTo>
                        <a:pt x="135790" y="740023"/>
                        <a:pt x="135791" y="1174518"/>
                        <a:pt x="135791" y="1609012"/>
                      </a:cubicBezTo>
                      <a:lnTo>
                        <a:pt x="0" y="1609012"/>
                      </a:lnTo>
                      <a:close/>
                    </a:path>
                  </a:pathLst>
                </a:custGeom>
                <a:solidFill>
                  <a:srgbClr val="e36c0a"/>
                </a:solidFill>
                <a:ln w="25560">
                  <a:solidFill>
                    <a:srgbClr val="e36c0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Cube 65"/>
                <p:cNvSpPr/>
                <p:nvPr/>
              </p:nvSpPr>
              <p:spPr>
                <a:xfrm>
                  <a:off x="609480" y="5730120"/>
                  <a:ext cx="1658160" cy="739800"/>
                </a:xfrm>
                <a:prstGeom prst="cube">
                  <a:avLst>
                    <a:gd name="adj" fmla="val 25976"/>
                  </a:avLst>
                </a:prstGeom>
                <a:solidFill>
                  <a:srgbClr val="b2a1c7"/>
                </a:solidFill>
                <a:ln w="9360">
                  <a:solidFill>
                    <a:srgbClr val="b2a1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put </a:t>
                  </a:r>
                  <a:r>
                    <a:rPr b="1" lang="en-US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upply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AutoShape 113"/>
                <p:cNvSpPr/>
                <p:nvPr/>
              </p:nvSpPr>
              <p:spPr>
                <a:xfrm>
                  <a:off x="2796840" y="5670360"/>
                  <a:ext cx="906840" cy="806760"/>
                </a:xfrm>
                <a:prstGeom prst="upArrowCallout">
                  <a:avLst>
                    <a:gd name="adj1" fmla="val 28104"/>
                    <a:gd name="adj2" fmla="val 28101"/>
                    <a:gd name="adj3" fmla="val 16667"/>
                    <a:gd name="adj4" fmla="val 66660"/>
                  </a:avLst>
                </a:prstGeom>
                <a:solidFill>
                  <a:srgbClr val="b2a1c7"/>
                </a:solidFill>
                <a:ln w="9360">
                  <a:solidFill>
                    <a:srgbClr val="b2a1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Extension services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" name="AutoShape 114"/>
                <p:cNvSpPr/>
                <p:nvPr/>
              </p:nvSpPr>
              <p:spPr>
                <a:xfrm>
                  <a:off x="3818520" y="5670360"/>
                  <a:ext cx="1642680" cy="806760"/>
                </a:xfrm>
                <a:prstGeom prst="upArrowCallout">
                  <a:avLst>
                    <a:gd name="adj1" fmla="val 50908"/>
                    <a:gd name="adj2" fmla="val 50904"/>
                    <a:gd name="adj3" fmla="val 16667"/>
                    <a:gd name="adj4" fmla="val 66660"/>
                  </a:avLst>
                </a:prstGeom>
                <a:solidFill>
                  <a:srgbClr val="b2a1c7"/>
                </a:solidFill>
                <a:ln w="9360">
                  <a:solidFill>
                    <a:srgbClr val="b2a1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Provision of Planting materials &amp; fertilizer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" name="AutoShape 115"/>
                <p:cNvSpPr/>
                <p:nvPr/>
              </p:nvSpPr>
              <p:spPr>
                <a:xfrm>
                  <a:off x="5834520" y="5670360"/>
                  <a:ext cx="906840" cy="806760"/>
                </a:xfrm>
                <a:prstGeom prst="upArrowCallout">
                  <a:avLst>
                    <a:gd name="adj1" fmla="val 28104"/>
                    <a:gd name="adj2" fmla="val 28101"/>
                    <a:gd name="adj3" fmla="val 16667"/>
                    <a:gd name="adj4" fmla="val 66660"/>
                  </a:avLst>
                </a:prstGeom>
                <a:solidFill>
                  <a:srgbClr val="b2a1c7"/>
                </a:solidFill>
                <a:ln w="9360">
                  <a:solidFill>
                    <a:srgbClr val="b2a1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Credit services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AutoShape 116"/>
                <p:cNvSpPr/>
                <p:nvPr/>
              </p:nvSpPr>
              <p:spPr>
                <a:xfrm>
                  <a:off x="7072920" y="5670360"/>
                  <a:ext cx="1015920" cy="806760"/>
                </a:xfrm>
                <a:prstGeom prst="upArrowCallout">
                  <a:avLst>
                    <a:gd name="adj1" fmla="val 31484"/>
                    <a:gd name="adj2" fmla="val 31481"/>
                    <a:gd name="adj3" fmla="val 16667"/>
                    <a:gd name="adj4" fmla="val 66660"/>
                  </a:avLst>
                </a:prstGeom>
                <a:solidFill>
                  <a:srgbClr val="b2a1c7"/>
                </a:solidFill>
                <a:ln w="9360">
                  <a:solidFill>
                    <a:srgbClr val="b2a1c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Technology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2" name="AutoShape 108"/>
                <p:cNvSpPr/>
                <p:nvPr/>
              </p:nvSpPr>
              <p:spPr>
                <a:xfrm>
                  <a:off x="2435400" y="1245240"/>
                  <a:ext cx="1343880" cy="900360"/>
                </a:xfrm>
                <a:prstGeom prst="downArrowCallout">
                  <a:avLst>
                    <a:gd name="adj1" fmla="val 37318"/>
                    <a:gd name="adj2" fmla="val 37315"/>
                    <a:gd name="adj3" fmla="val 16667"/>
                    <a:gd name="adj4" fmla="val 66667"/>
                  </a:avLst>
                </a:prstGeom>
                <a:solidFill>
                  <a:srgbClr val="fabf8f"/>
                </a:solidFill>
                <a:ln w="25560">
                  <a:solidFill>
                    <a:srgbClr val="fabf8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Land availability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3" name="AutoShape 109"/>
                <p:cNvSpPr/>
                <p:nvPr/>
              </p:nvSpPr>
              <p:spPr>
                <a:xfrm>
                  <a:off x="4578480" y="1235160"/>
                  <a:ext cx="1255680" cy="900360"/>
                </a:xfrm>
                <a:prstGeom prst="downArrowCallout">
                  <a:avLst>
                    <a:gd name="adj1" fmla="val 34869"/>
                    <a:gd name="adj2" fmla="val 34866"/>
                    <a:gd name="adj3" fmla="val 16667"/>
                    <a:gd name="adj4" fmla="val 66667"/>
                  </a:avLst>
                </a:prstGeom>
                <a:solidFill>
                  <a:srgbClr val="fabf8f"/>
                </a:solidFill>
                <a:ln w="25560">
                  <a:solidFill>
                    <a:srgbClr val="fabf8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Rules and Regulations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4" name="AutoShape 110"/>
                <p:cNvSpPr/>
                <p:nvPr/>
              </p:nvSpPr>
              <p:spPr>
                <a:xfrm>
                  <a:off x="6675120" y="1286280"/>
                  <a:ext cx="1186200" cy="900360"/>
                </a:xfrm>
                <a:prstGeom prst="downArrowCallout">
                  <a:avLst>
                    <a:gd name="adj1" fmla="val 32940"/>
                    <a:gd name="adj2" fmla="val 32937"/>
                    <a:gd name="adj3" fmla="val 16667"/>
                    <a:gd name="adj4" fmla="val 66667"/>
                  </a:avLst>
                </a:prstGeom>
                <a:solidFill>
                  <a:srgbClr val="fabf8f"/>
                </a:solidFill>
                <a:ln w="25560">
                  <a:solidFill>
                    <a:srgbClr val="fabf8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Drought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5" name="AutoShape 70"/>
                <p:cNvSpPr/>
                <p:nvPr/>
              </p:nvSpPr>
              <p:spPr>
                <a:xfrm rot="16200000">
                  <a:off x="4994640" y="3628800"/>
                  <a:ext cx="360720" cy="1455120"/>
                </a:xfrm>
                <a:prstGeom prst="upArrow">
                  <a:avLst>
                    <a:gd name="adj1" fmla="val 49806"/>
                    <a:gd name="adj2" fmla="val 64169"/>
                  </a:avLst>
                </a:prstGeom>
                <a:solidFill>
                  <a:srgbClr val="0070c0"/>
                </a:solidFill>
                <a:ln w="93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66" name="Straight Connector 76"/>
          <p:cNvSpPr/>
          <p:nvPr/>
        </p:nvSpPr>
        <p:spPr>
          <a:xfrm>
            <a:off x="636480" y="2135160"/>
            <a:ext cx="78980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traight Connector 79"/>
          <p:cNvSpPr/>
          <p:nvPr/>
        </p:nvSpPr>
        <p:spPr>
          <a:xfrm>
            <a:off x="609480" y="5562720"/>
            <a:ext cx="7786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6:46:01Z</dcterms:created>
  <dc:creator>user</dc:creator>
  <dc:description/>
  <dc:language>en-US</dc:language>
  <cp:lastModifiedBy>PBallantyne</cp:lastModifiedBy>
  <dcterms:modified xsi:type="dcterms:W3CDTF">2012-06-04T17:54:55Z</dcterms:modified>
  <cp:revision>128</cp:revision>
  <dc:subject/>
  <dc:title>Introduction</dc:title>
</cp:coreProperties>
</file>